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applause.wav" ContentType="audio/x-wav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69B3-B130-4497-BABC-4B6E0365B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0387-21EE-460D-B6BF-762B20BE5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285-46E6-49AE-B77C-7275A4EB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A72-46CC-4895-9ACB-FAC266C5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C1A-43BA-4D46-9848-B59861FA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72C-5B0E-4484-A7FD-0A1DDE6A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7E4E-52D3-4EFD-A547-AD3C6C13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C24D-3343-4B8A-8D6A-C4732BC2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59EA-9910-42BA-A5C7-68423771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0650-9506-4DBB-B588-10419922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6766-DC2E-4C6C-9B50-BB79E0A6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CE90-6549-4A5C-8A01-F47B49A9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F02D-A593-4565-8BA2-3A900DA0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6AF-B3CC-4905-AFEB-228663B7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4499-B560-4876-AA9E-DDDC8149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7982-10FC-496E-9941-F0865864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8886-DD44-40FE-A270-E3AF4772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A68B-251D-4673-8E79-34E7E1BC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A2DC-4A24-4A0A-A0C5-21EEEA91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A13D-1B78-42AF-841A-F0A4A39F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54A52-BD1A-45FB-AB64-1A29E02E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2D92-FB53-4636-9BCF-40CE6F11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6E17-33B6-4006-89B4-5E50C324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6E16-8703-4DFC-BA41-91548D20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2EE-2904-4009-959D-E3E49294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7C0A-4DCB-4C13-ABFA-CFC0BAA1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97B1-E98E-4B16-8119-CCC1B9FE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2B70-32A8-42BD-9F95-6CB714D7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D505A-B5AA-483E-AB5C-420D153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69AB4-5954-4F1A-9CBB-48794F29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2B28-3A13-42A3-A0FB-4B69BF2D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1AD2-4E12-492A-9061-F8041F4D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D36E-0EB6-4733-8515-9A202701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269C-3D39-4E67-83C0-D1CE1A9E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EC912-5764-4FEE-957E-0B140496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928-E536-4D8E-9939-9A2229D5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6A390-0DD1-4F17-9DC8-F8D5A1A0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7DF0-E2FE-4BC3-8FF5-529227EB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64E0-DE9E-4613-9DCD-1A44517E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EBE2-753E-4DA2-9C51-D527894A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B79C-8BD3-4E28-B206-271EC49E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92783-C033-47BF-8375-75AA7EA0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29E22-DD5C-4555-8C67-7AD00C66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4A03-760F-4653-BFC4-D155667B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E9F8-3433-453C-B1C4-561F0D7D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D30D6-E9C2-4EF5-9495-1B4CD7C7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A05-31F1-4B4C-866F-A22FCBD1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05864-4D45-4225-9F12-9483099D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C9F95-A984-409A-B369-86D47EAF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EBE4-A860-4660-A2C7-D466B07A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4B75C-A839-424C-9A29-0670EEC9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C71A2-9EAF-4B3F-962E-D524A661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6695B-87E2-455D-99E0-BDC7DEA2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74D14-A801-4201-B8A2-18AE142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9F0C4-5271-4A14-AA74-30B05237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7EA6-DEC8-4070-8FBC-20D1E1D0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26280-9C89-4158-8A95-1919EFA6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AA1-EEE4-47C2-9806-F25F7D30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EA848-00E0-4046-A2E5-7B9DC62E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777-B6F3-4339-BF45-30299A3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829-87E9-44BF-ADA5-0FBED0C5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A43-B16A-4D67-B8B0-A25EEE0F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677B-DE80-4DBC-9A34-787763E9283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5D40-2FCA-4031-B349-09FB337FDE5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5C36-393B-4E0E-9F18-B6C0F0D3F7C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C3AC-8F5A-4F29-B4B6-C0366EE47A2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8E84-B1FE-4896-AFF5-0AD53D2A89B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5.xml"/><Relationship Id="rId3" Type="http://schemas.openxmlformats.org/officeDocument/2006/relationships/slide" Target="slide33.xml"/><Relationship Id="rId4" Type="http://schemas.openxmlformats.org/officeDocument/2006/relationships/slide" Target="slide41.xml"/><Relationship Id="rId5" Type="http://schemas.openxmlformats.org/officeDocument/2006/relationships/slide" Target="slide18.xml"/><Relationship Id="rId6" Type="http://schemas.openxmlformats.org/officeDocument/2006/relationships/slide" Target="slide26.xml"/><Relationship Id="rId7" Type="http://schemas.openxmlformats.org/officeDocument/2006/relationships/slide" Target="slide34.xml"/><Relationship Id="rId8" Type="http://schemas.openxmlformats.org/officeDocument/2006/relationships/slide" Target="slide42.xml"/><Relationship Id="rId9" Type="http://schemas.openxmlformats.org/officeDocument/2006/relationships/slide" Target="slide19.xml"/><Relationship Id="rId10" Type="http://schemas.openxmlformats.org/officeDocument/2006/relationships/slide" Target="slide27.xml"/><Relationship Id="rId11" Type="http://schemas.openxmlformats.org/officeDocument/2006/relationships/slide" Target="slide35.xml"/><Relationship Id="rId12" Type="http://schemas.openxmlformats.org/officeDocument/2006/relationships/slide" Target="slide43.xml"/><Relationship Id="rId13" Type="http://schemas.openxmlformats.org/officeDocument/2006/relationships/slide" Target="slide20.xml"/><Relationship Id="rId14" Type="http://schemas.openxmlformats.org/officeDocument/2006/relationships/slide" Target="slide28.xml"/><Relationship Id="rId15" Type="http://schemas.openxmlformats.org/officeDocument/2006/relationships/slide" Target="slide36.xml"/><Relationship Id="rId16" Type="http://schemas.openxmlformats.org/officeDocument/2006/relationships/slide" Target="slide44.xml"/><Relationship Id="rId17" Type="http://schemas.openxmlformats.org/officeDocument/2006/relationships/slide" Target="slide45.xml"/><Relationship Id="rId18" Type="http://schemas.openxmlformats.org/officeDocument/2006/relationships/slide" Target="slide29.xml"/><Relationship Id="rId19" Type="http://schemas.openxmlformats.org/officeDocument/2006/relationships/slide" Target="slide37.xml"/><Relationship Id="rId20" Type="http://schemas.openxmlformats.org/officeDocument/2006/relationships/slide" Target="slide45.xml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how.com/about_4743574_different-kinds-computer-viruses.html" TargetMode="External"/><Relationship Id="rId3" Type="http://schemas.openxmlformats.org/officeDocument/2006/relationships/hyperlink" Target="http://www.microsoft.com/security/antivirus/whatis.aspx" TargetMode="External"/><Relationship Id="rId4" Type="http://schemas.openxmlformats.org/officeDocument/2006/relationships/hyperlink" Target="http://www.newton.dep.anl.gov/teachers/compvir.ht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"/><Relationship Id="rId3" Type="http://schemas.openxmlformats.org/officeDocument/2006/relationships/image" Target="../media/image20.png"/><Relationship Id="rId4" Type="http://schemas.openxmlformats.org/officeDocument/2006/relationships/image" Target="../media/image30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answers.com/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8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webmd.com/mental-health/features/video-game-addiction-no-fun" TargetMode="External"/><Relationship Id="rId3" Type="http://schemas.openxmlformats.org/officeDocument/2006/relationships/hyperlink" Target="http://www.ocregister.com/news/game-208290-wow-addiction.html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3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60840" cy="21463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Romans: Destiny Tucker, Cire </a:t>
            </a: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Berry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, Emmett Mobley, Imani Hawkins, Armani Cart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560"/>
            <a:ext cx="723888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ople who are addicted to games as a child don’t develop socially and never learn to play a spo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st Game addicts are males under 3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Action Button: Forward or Next 4">
            <a:hlinkClick r:id="" action="ppaction://hlinkshowjump?jump=nextslide"/>
          </p:cNvPr>
          <p:cNvSpPr/>
          <p:nvPr/>
        </p:nvSpPr>
        <p:spPr>
          <a:xfrm>
            <a:off x="6629400" y="57913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3794"/>
                </a:moveTo>
                <a:lnTo>
                  <a:pt x="22434" y="10800"/>
                </a:lnTo>
                <a:lnTo>
                  <a:pt x="8421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warning signs of game addiction ar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creasing amounts of time spent on gam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tantly think about gaming while doing something el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ing games to escape real life probl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cealing gam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eling irritable when trying to cut down on time spent gam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5627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2" h="21600">
                <a:moveTo>
                  <a:pt x="4430" y="3794"/>
                </a:moveTo>
                <a:lnTo>
                  <a:pt x="18443" y="10800"/>
                </a:lnTo>
                <a:lnTo>
                  <a:pt x="443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0" y="378000"/>
            <a:ext cx="7491240" cy="1158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5228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inary numbers go by the power of 2. And everything in the computers are converted to 0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, because there is only two states an electrical circuit can be in. it addresses the way the computer count different things tha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on i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2578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4475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ind the total of the true numbers for the binary i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easier to use the char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8   64   32   16   8   4   2   1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1     0     0    1    1   1   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cimal number (true number) converted to Binary Numbers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9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5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7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3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1100111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343400" y="2209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 together the columns where the 0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nd 1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are to get decim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410080" y="464832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btract the largest binary number into the decim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886200" y="28954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5335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11430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16002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4"/>
          <p:cNvSpPr/>
          <p:nvPr/>
        </p:nvSpPr>
        <p:spPr>
          <a:xfrm>
            <a:off x="2133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25146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6"/>
          <p:cNvSpPr/>
          <p:nvPr/>
        </p:nvSpPr>
        <p:spPr>
          <a:xfrm>
            <a:off x="297180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7"/>
          <p:cNvSpPr/>
          <p:nvPr/>
        </p:nvSpPr>
        <p:spPr>
          <a:xfrm>
            <a:off x="3276720" y="30481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3581280" y="30481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9"/>
          <p:cNvSpPr/>
          <p:nvPr/>
        </p:nvSpPr>
        <p:spPr>
          <a:xfrm>
            <a:off x="4876920" y="4800600"/>
            <a:ext cx="53316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15">
            <a:hlinkClick r:id="" action="ppaction://hlinkshowjump?jump=nextslide"/>
          </p:cNvPr>
          <p:cNvSpPr/>
          <p:nvPr/>
        </p:nvSpPr>
        <p:spPr>
          <a:xfrm>
            <a:off x="693432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Binary Numbers;Byte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byte is a unit of data that is eight binary digits long. A byte it’s a unit most computers use to represent  a letter, number, or symbo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0" y="76320"/>
          <a:ext cx="8229600" cy="6781680"/>
        </p:xfrm>
        <a:graphic>
          <a:graphicData uri="http://schemas.openxmlformats.org/drawingml/2006/table">
            <a:tbl>
              <a:tblPr/>
              <a:tblGrid>
                <a:gridCol w="1711440"/>
                <a:gridCol w="1630080"/>
                <a:gridCol w="1629000"/>
                <a:gridCol w="1630440"/>
                <a:gridCol w="1628640"/>
              </a:tblGrid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ru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ide the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Game Ad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inary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3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4" action="ppaction://hlinksldjump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5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6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7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8" action="ppaction://hlinksldjump"/>
                        </a:rPr>
                        <a:t>2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9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0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1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2" action="ppaction://hlinksldjump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3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4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5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6" action="ppaction://hlinksldjump"/>
                        </a:rPr>
                        <a:t>4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7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8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19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ffde66"/>
                          </a:solidFill>
                          <a:uFillTx/>
                          <a:latin typeface="Trebuchet MS"/>
                          <a:hlinkClick r:id="rId20" action="ppaction://hlinksldjump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530280" y="-237960"/>
            <a:ext cx="8211960" cy="1487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2193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What is a virus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2286000" y="259092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is a computer program that can multiply itself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 </a:t>
            </a:r>
            <a:r>
              <a:rPr b="0" lang="en-US" sz="2800" spc="-1" strike="noStrike" u="sng" baseline="30000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and infect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Is a computer program  that hacks your computer and then  fixes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Is a computer program  that creates a lot of pop up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Is a computer program that takes away all our batter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12320" cy="14508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ich one is a form of a viru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33526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rojan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rojan 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rojan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rojan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____ we ar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weak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Vulnerabl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Egotistica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powerfu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5998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virus is a computer program that can multiply itsel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fect a comput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is commonly used to refer to other types of malware, adware and spyware program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can spread from one computer to another in some type of code when its host is taken to the target computer; it could happen when a user sent it over a network or the Internet, or carried on a floppy disk, CD, DVD, or USB driv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show how vulnerable we 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Action Button: Forward or Next 3">
            <a:hlinkClick r:id="" action="ppaction://hlinkshowjump?jump=nextslide"/>
          </p:cNvPr>
          <p:cNvSpPr/>
          <p:nvPr/>
        </p:nvSpPr>
        <p:spPr>
          <a:xfrm>
            <a:off x="6553080" y="594360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way to protect yourself from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void unknown internet websit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Never double click a email attach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Use virus prote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5" action="ppaction://hlinksldjump"/>
              </a:rPr>
              <a:t>Avoid random progra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609480" y="47304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ne is not a reason why people create virus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people like devas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Bragging righ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for the fun of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Test different computers weaknes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Title 3" descr=""/>
          <p:cNvPicPr/>
          <p:nvPr/>
        </p:nvPicPr>
        <p:blipFill>
          <a:blip r:embed="rId5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4" descr=""/>
          <p:cNvPicPr/>
          <p:nvPr/>
        </p:nvPicPr>
        <p:blipFill>
          <a:blip r:embed="rId1"/>
          <a:stretch/>
        </p:blipFill>
        <p:spPr>
          <a:xfrm>
            <a:off x="450720" y="-615960"/>
            <a:ext cx="8242560" cy="2146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C:\Users\lundylog\AppData\Local\Microsoft\Windows\Temporary Internet Files\Content.IE5\BN3GBYYM\MC900433820[1].png"/>
          <p:cNvPicPr/>
          <p:nvPr/>
        </p:nvPicPr>
        <p:blipFill>
          <a:blip r:embed="rId2"/>
          <a:stretch/>
        </p:blipFill>
        <p:spPr>
          <a:xfrm>
            <a:off x="1447920" y="1066680"/>
            <a:ext cx="5790960" cy="5181840"/>
          </a:xfrm>
          <a:prstGeom prst="rect">
            <a:avLst/>
          </a:prstGeom>
          <a:ln w="0">
            <a:noFill/>
          </a:ln>
        </p:spPr>
      </p:pic>
      <p:sp>
        <p:nvSpPr>
          <p:cNvPr id="299" name="Action Button: Home 4">
            <a:hlinkClick r:id="rId3" action="ppaction://hlinksldjump"/>
          </p:cNvPr>
          <p:cNvSpPr/>
          <p:nvPr/>
        </p:nvSpPr>
        <p:spPr>
          <a:xfrm>
            <a:off x="6629400" y="56386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12824" y="3837"/>
                </a:moveTo>
                <a:lnTo>
                  <a:pt x="15400" y="6448"/>
                </a:ln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lnTo>
                  <a:pt x="19787" y="10800"/>
                </a:lnTo>
                <a:lnTo>
                  <a:pt x="18133" y="10800"/>
                </a:lnTo>
                <a:lnTo>
                  <a:pt x="18133" y="17989"/>
                </a:lnTo>
                <a:lnTo>
                  <a:pt x="7515" y="17989"/>
                </a:lnTo>
                <a:lnTo>
                  <a:pt x="7515" y="10800"/>
                </a:lnTo>
                <a:lnTo>
                  <a:pt x="5861" y="10800"/>
                </a:lnTo>
                <a:close/>
              </a:path>
              <a:path fill="darkenLess" w="25648" h="21600">
                <a:moveTo>
                  <a:pt x="15400" y="6448"/>
                </a:moveTo>
                <a:lnTo>
                  <a:pt x="15400" y="4707"/>
                </a:lnTo>
                <a:lnTo>
                  <a:pt x="17176" y="4707"/>
                </a:lnTo>
                <a:lnTo>
                  <a:pt x="17176" y="8224"/>
                </a:lnTo>
                <a:close/>
              </a:path>
              <a:path fill="darkenLess" w="25648" h="21600">
                <a:moveTo>
                  <a:pt x="11902" y="14299"/>
                </a:moveTo>
                <a:lnTo>
                  <a:pt x="13747" y="14299"/>
                </a:lnTo>
                <a:lnTo>
                  <a:pt x="13747" y="17989"/>
                </a:lnTo>
                <a:lnTo>
                  <a:pt x="18133" y="17989"/>
                </a:lnTo>
                <a:lnTo>
                  <a:pt x="18133" y="10800"/>
                </a:lnTo>
                <a:lnTo>
                  <a:pt x="7515" y="10800"/>
                </a:lnTo>
                <a:lnTo>
                  <a:pt x="7515" y="17989"/>
                </a:lnTo>
                <a:lnTo>
                  <a:pt x="11902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5" descr=""/>
          <p:cNvPicPr/>
          <p:nvPr/>
        </p:nvPicPr>
        <p:blipFill>
          <a:blip r:embed="rId1"/>
          <a:stretch/>
        </p:blipFill>
        <p:spPr>
          <a:xfrm>
            <a:off x="298440" y="-920880"/>
            <a:ext cx="8242200" cy="2835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C:\Users\lundylog\AppData\Local\Microsoft\Windows\Temporary Internet Files\Content.IE5\CINLLN2E\MC900433818[1].png"/>
          <p:cNvPicPr/>
          <p:nvPr/>
        </p:nvPicPr>
        <p:blipFill>
          <a:blip r:embed="rId2"/>
          <a:stretch/>
        </p:blipFill>
        <p:spPr>
          <a:xfrm>
            <a:off x="365760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C:\Users\lundylog\AppData\Local\Microsoft\Windows\Temporary Internet Files\Content.IE5\CINLLN2E\MC900433818[1].png"/>
          <p:cNvPicPr/>
          <p:nvPr/>
        </p:nvPicPr>
        <p:blipFill>
          <a:blip r:embed="rId3"/>
          <a:stretch/>
        </p:blipFill>
        <p:spPr>
          <a:xfrm>
            <a:off x="1828800" y="182880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0" y="4876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Back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ehow.com/about_4743574_different-kinds-computer-viruses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microsoft.com/security/antivirus/whatis.aspx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http://www.newton.dep.anl.gov/teachers/compvir.ht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835200" y="225360"/>
            <a:ext cx="8216640" cy="20908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95280" y="1752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does CPU stand for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609480" y="3657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Control Program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Control Process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Central Processing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D) Computer U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755640" y="49320"/>
            <a:ext cx="8217000" cy="20905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asic function of the Video Car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066680" y="3581280"/>
            <a:ext cx="6705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) Stores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) Displays 2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C) Displays 2d and 3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-79200" y="225360"/>
            <a:ext cx="7711920" cy="11826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at is the professional name for the “Heart of the Computer”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3352680"/>
            <a:ext cx="7238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Motherboar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Hard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Optical Driv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705800" cy="1150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365760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Steve Jo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Z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Bill Gat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914400" y="2057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o created the first compu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7058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80520" y="3428640"/>
            <a:ext cx="7239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A) Optical drive uses light to receive information and a Hard drive stores informa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B) Optical Drive stores information and a Hard drive uses light to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C) They both use light to receive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62120" y="21337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difference between and Optical drive and a Hard dr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5235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 viruses- it travels as a attachment to email messages, and copies itself by automatically sending itself to random people in your conte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an horses- it’s a computer program which claims to do something but its really just damaging your computer secretl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m – is a small piece of software that uses computer networks and security holes to replicate itself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Action Button: Forward or Next 3">
            <a:hlinkClick r:id="" action="ppaction://hlinkshowjump?jump=nextslide"/>
          </p:cNvPr>
          <p:cNvSpPr/>
          <p:nvPr/>
        </p:nvSpPr>
        <p:spPr>
          <a:xfrm>
            <a:off x="6629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4" descr=""/>
          <p:cNvPicPr/>
          <p:nvPr/>
        </p:nvPicPr>
        <p:blipFill>
          <a:blip r:embed="rId1"/>
          <a:stretch/>
        </p:blipFill>
        <p:spPr>
          <a:xfrm>
            <a:off x="19080" y="298440"/>
            <a:ext cx="8137440" cy="1536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Documents and Settings\student\Local Settings\Temporary Internet Files\Content.IE5\9EES06XC\MC90043382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28800" y="19051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324" name="Action Button: Home 5">
            <a:hlinkClick r:id="rId5" action="ppaction://hlinksldjump"/>
          </p:cNvPr>
          <p:cNvSpPr/>
          <p:nvPr/>
        </p:nvSpPr>
        <p:spPr>
          <a:xfrm>
            <a:off x="6095880" y="4800600"/>
            <a:ext cx="1905120" cy="1676520"/>
          </a:xfrm>
          <a:custGeom>
            <a:avLst/>
            <a:gdLst>
              <a:gd name="textAreaLeft" fmla="*/ 108360 w 1905120"/>
              <a:gd name="textAreaRight" fmla="*/ 1796760 w 19051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5" h="21600">
                <a:moveTo>
                  <a:pt x="0" y="0"/>
                </a:moveTo>
                <a:lnTo>
                  <a:pt x="24545" y="0"/>
                </a:lnTo>
                <a:lnTo>
                  <a:pt x="24545" y="21600"/>
                </a:lnTo>
                <a:lnTo>
                  <a:pt x="0" y="21600"/>
                </a:lnTo>
                <a:close/>
              </a:path>
              <a:path fill="lightenLess" w="24545" h="21600">
                <a:moveTo>
                  <a:pt x="0" y="0"/>
                </a:moveTo>
                <a:lnTo>
                  <a:pt x="24545" y="0"/>
                </a:lnTo>
                <a:lnTo>
                  <a:pt x="23145" y="1400"/>
                </a:lnTo>
                <a:lnTo>
                  <a:pt x="1400" y="1400"/>
                </a:lnTo>
                <a:close/>
              </a:path>
              <a:path fill="darken" w="24545" h="21600">
                <a:moveTo>
                  <a:pt x="24545" y="0"/>
                </a:moveTo>
                <a:lnTo>
                  <a:pt x="24545" y="21600"/>
                </a:lnTo>
                <a:lnTo>
                  <a:pt x="23145" y="20200"/>
                </a:lnTo>
                <a:lnTo>
                  <a:pt x="23145" y="1400"/>
                </a:lnTo>
                <a:close/>
              </a:path>
              <a:path fill="darkenLess" w="24545" h="21600">
                <a:moveTo>
                  <a:pt x="24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5" y="20200"/>
                </a:lnTo>
                <a:close/>
              </a:path>
              <a:path fill="lighten" w="24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5" h="21600">
                <a:moveTo>
                  <a:pt x="12272" y="3837"/>
                </a:moveTo>
                <a:lnTo>
                  <a:pt x="14849" y="6448"/>
                </a:ln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lnTo>
                  <a:pt x="19235" y="10800"/>
                </a:lnTo>
                <a:lnTo>
                  <a:pt x="17582" y="10800"/>
                </a:lnTo>
                <a:lnTo>
                  <a:pt x="17582" y="17989"/>
                </a:lnTo>
                <a:lnTo>
                  <a:pt x="6963" y="17989"/>
                </a:lnTo>
                <a:lnTo>
                  <a:pt x="6963" y="10800"/>
                </a:lnTo>
                <a:lnTo>
                  <a:pt x="5309" y="10800"/>
                </a:lnTo>
                <a:close/>
              </a:path>
              <a:path fill="darkenLess" w="24545" h="21600">
                <a:moveTo>
                  <a:pt x="14849" y="6448"/>
                </a:moveTo>
                <a:lnTo>
                  <a:pt x="14849" y="4707"/>
                </a:lnTo>
                <a:lnTo>
                  <a:pt x="16624" y="4707"/>
                </a:lnTo>
                <a:lnTo>
                  <a:pt x="16624" y="8224"/>
                </a:lnTo>
                <a:close/>
              </a:path>
              <a:path fill="darkenLess" w="24545" h="21600">
                <a:moveTo>
                  <a:pt x="11350" y="14299"/>
                </a:moveTo>
                <a:lnTo>
                  <a:pt x="13195" y="14299"/>
                </a:lnTo>
                <a:lnTo>
                  <a:pt x="13195" y="17989"/>
                </a:lnTo>
                <a:lnTo>
                  <a:pt x="17582" y="17989"/>
                </a:lnTo>
                <a:lnTo>
                  <a:pt x="17582" y="10800"/>
                </a:lnTo>
                <a:lnTo>
                  <a:pt x="6963" y="10800"/>
                </a:lnTo>
                <a:lnTo>
                  <a:pt x="6963" y="17989"/>
                </a:lnTo>
                <a:lnTo>
                  <a:pt x="11350" y="17989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5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242200" cy="2828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C:\Documents and Settings\student\Local Settings\Temporary Internet Files\Content.IE5\0U764WG3\MC900433818[1].png"/>
          <p:cNvPicPr/>
          <p:nvPr/>
        </p:nvPicPr>
        <p:blipFill>
          <a:blip r:embed="rId2"/>
          <a:stretch/>
        </p:blipFill>
        <p:spPr>
          <a:xfrm>
            <a:off x="236232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685800" y="55627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Back to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google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Inventors.about.co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www.answers.co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7785000" cy="148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ow old are most addic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2971800" y="3124080"/>
            <a:ext cx="5105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30 and 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15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10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10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y do people get addicted to games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2743200" y="33336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like to play video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Virtual Life becomes more appealing than re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are dating someone in th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It is free and they feel that they need to take advantage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happens if someone is addicted to games as a chil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743200" y="2971800"/>
            <a:ext cx="6400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They grow up to live a norm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They don’t develop socially and never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They don’t learn to play a sport, but they develop soc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They don’t develop socially, but they learn to play a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does MMORPG stand for and what does WOW stand for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Magically Multiplayer Offline Role-Playing God and World of Warmon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Magnificently Magically Online Role-Playing Game and Warcraft of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Massively Multiplayer Online Role-Playing Game and World of Warcr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Massively Multiplayer Online Role-Playing Game and World of Wa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065800" cy="1450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at is a warning sign of game addiction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743200" y="289548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Playing games when they h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3" action="ppaction://hlinksldjump"/>
              </a:rPr>
              <a:t>Only thinking about gaming when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Feeling great when cutting down on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Arial"/>
                <a:hlinkClick r:id="rId5" action="ppaction://hlinksldjump"/>
              </a:rPr>
              <a:t>Spending increasing amounts of time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1"/>
          <a:stretch/>
        </p:blipFill>
        <p:spPr>
          <a:xfrm>
            <a:off x="-6480" y="-189000"/>
            <a:ext cx="8242560" cy="2584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Documents and Settings\student\Local Settings\Temporary Internet Files\Content.IE5\FM0DGQCO\MC900433820[1].png"/>
          <p:cNvPicPr/>
          <p:nvPr/>
        </p:nvPicPr>
        <p:blipFill>
          <a:blip r:embed="rId2"/>
          <a:stretch/>
        </p:blipFill>
        <p:spPr>
          <a:xfrm>
            <a:off x="1523880" y="1676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347" name="Action Button: Home 4">
            <a:hlinkClick r:id="rId3" action="ppaction://hlinksldjump"/>
          </p:cNvPr>
          <p:cNvSpPr/>
          <p:nvPr/>
        </p:nvSpPr>
        <p:spPr>
          <a:xfrm>
            <a:off x="6172200" y="4724280"/>
            <a:ext cx="1981080" cy="2133720"/>
          </a:xfrm>
          <a:custGeom>
            <a:avLst/>
            <a:gdLst>
              <a:gd name="textAreaLeft" fmla="*/ 128160 w 1981080"/>
              <a:gd name="textAreaRight" fmla="*/ 1852920 w 1981080"/>
              <a:gd name="textAreaTop" fmla="*/ 128160 h 2133720"/>
              <a:gd name="textAreaBottom" fmla="*/ 2005560 h 2133720"/>
            </a:gdLst>
            <a:ahLst/>
            <a:rect l="textAreaLeft" t="textAreaTop" r="textAreaRight" b="textAreaBottom"/>
            <a:pathLst>
              <a:path w="21600" h="23264">
                <a:moveTo>
                  <a:pt x="0" y="0"/>
                </a:moveTo>
                <a:lnTo>
                  <a:pt x="21600" y="0"/>
                </a:lnTo>
                <a:lnTo>
                  <a:pt x="21600" y="23264"/>
                </a:lnTo>
                <a:lnTo>
                  <a:pt x="0" y="23264"/>
                </a:lnTo>
                <a:close/>
              </a:path>
              <a:path fill="lightenLess" w="21600" h="23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4">
                <a:moveTo>
                  <a:pt x="21600" y="0"/>
                </a:moveTo>
                <a:lnTo>
                  <a:pt x="21600" y="23264"/>
                </a:lnTo>
                <a:lnTo>
                  <a:pt x="20200" y="21864"/>
                </a:lnTo>
                <a:lnTo>
                  <a:pt x="20200" y="1400"/>
                </a:lnTo>
                <a:close/>
              </a:path>
              <a:path fill="darkenLess" w="21600" h="23264">
                <a:moveTo>
                  <a:pt x="21600" y="23264"/>
                </a:moveTo>
                <a:lnTo>
                  <a:pt x="0" y="23264"/>
                </a:lnTo>
                <a:lnTo>
                  <a:pt x="1400" y="21864"/>
                </a:lnTo>
                <a:lnTo>
                  <a:pt x="20200" y="21864"/>
                </a:lnTo>
                <a:close/>
              </a:path>
              <a:path fill="lighten" w="21600" h="23264">
                <a:moveTo>
                  <a:pt x="0" y="23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4"/>
                </a:lnTo>
                <a:close/>
              </a:path>
              <a:path fill="darken" w="21600" h="23264">
                <a:moveTo>
                  <a:pt x="10800" y="4669"/>
                </a:moveTo>
                <a:lnTo>
                  <a:pt x="13376" y="7280"/>
                </a:ln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lnTo>
                  <a:pt x="17763" y="11632"/>
                </a:lnTo>
                <a:lnTo>
                  <a:pt x="16109" y="11632"/>
                </a:lnTo>
                <a:lnTo>
                  <a:pt x="16109" y="18821"/>
                </a:lnTo>
                <a:lnTo>
                  <a:pt x="5491" y="18821"/>
                </a:lnTo>
                <a:lnTo>
                  <a:pt x="5491" y="11632"/>
                </a:lnTo>
                <a:lnTo>
                  <a:pt x="3837" y="11632"/>
                </a:lnTo>
                <a:close/>
              </a:path>
              <a:path fill="darkenLess" w="21600" h="23264">
                <a:moveTo>
                  <a:pt x="13376" y="7280"/>
                </a:move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close/>
              </a:path>
              <a:path fill="darkenLess" w="21600" h="23264">
                <a:moveTo>
                  <a:pt x="9877" y="15131"/>
                </a:moveTo>
                <a:lnTo>
                  <a:pt x="11723" y="15131"/>
                </a:lnTo>
                <a:lnTo>
                  <a:pt x="11723" y="18821"/>
                </a:lnTo>
                <a:lnTo>
                  <a:pt x="16109" y="18821"/>
                </a:lnTo>
                <a:lnTo>
                  <a:pt x="16109" y="11632"/>
                </a:lnTo>
                <a:lnTo>
                  <a:pt x="5491" y="11632"/>
                </a:lnTo>
                <a:lnTo>
                  <a:pt x="5491" y="18821"/>
                </a:lnTo>
                <a:lnTo>
                  <a:pt x="9877" y="18821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5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2481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0" y="556272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Go Back and inform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0" name="Picture 5" descr="C:\Documents and Settings\student\Local Settings\Temporary Internet Files\Content.IE5\8323Y0WE\MC900433818[1].png"/>
          <p:cNvPicPr/>
          <p:nvPr/>
        </p:nvPicPr>
        <p:blipFill>
          <a:blip r:embed="rId3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74720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void programs and unknown sources( if don’t know what the program is don’t mess with it, just close out of i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 virus protection such as anti virus software and virus sca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ver double click on email attachments( hit it once and wait, if nothing shows up, then hit again , if nothing, then assume your computer is acting slow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Action Button: Forward or Next 3">
            <a:hlinkClick r:id="" action="ppaction://hlinkshowjump?jump=nextslide"/>
          </p:cNvPr>
          <p:cNvSpPr/>
          <p:nvPr/>
        </p:nvSpPr>
        <p:spPr>
          <a:xfrm>
            <a:off x="6477120" y="60199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45" h="21600">
                <a:moveTo>
                  <a:pt x="10666" y="3794"/>
                </a:moveTo>
                <a:lnTo>
                  <a:pt x="24679" y="10800"/>
                </a:lnTo>
                <a:lnTo>
                  <a:pt x="106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webmd.com/mental-health/features/video-game-addiction-no-fu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://www.ocregister.com/news/game-208290-wow-addiction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205840" cy="1481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power does binary numbers go by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447920" y="297180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Arial"/>
                <a:hlinkClick r:id="rId2" action="ppaction://hlinksldjump"/>
              </a:rPr>
              <a:t>A</a:t>
            </a:r>
            <a:r>
              <a:rPr b="0" lang="en-US" sz="2800" spc="-1" strike="noStrike">
                <a:solidFill>
                  <a:srgbClr val="e3afd8"/>
                </a:solidFill>
                <a:latin typeface="Arial"/>
              </a:rPr>
              <a:t>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a byt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523880" y="3352680"/>
            <a:ext cx="6705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seven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some computers use to represent a letter, number, or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data that is nine binary digits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755640" y="-6480"/>
            <a:ext cx="8278920" cy="14637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10110100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3880" y="3352680"/>
            <a:ext cx="6705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conversion of 00001111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755640" y="6480"/>
            <a:ext cx="8205840" cy="14508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is the binary number for 227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523880" y="3352680"/>
            <a:ext cx="670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4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7175520" cy="2116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C:\Documents and Settings\student\Local Settings\Temporary Internet Files\Content.IE5\PM48CWES\MC900433820[1].png"/>
          <p:cNvPicPr/>
          <p:nvPr/>
        </p:nvPicPr>
        <p:blipFill>
          <a:blip r:embed="rId2"/>
          <a:stretch/>
        </p:blipFill>
        <p:spPr>
          <a:xfrm>
            <a:off x="2590920" y="24382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370" name="Action Button: Home 5"/>
          <p:cNvSpPr/>
          <p:nvPr/>
        </p:nvSpPr>
        <p:spPr>
          <a:xfrm>
            <a:off x="6477120" y="5181480"/>
            <a:ext cx="1676160" cy="1676520"/>
          </a:xfrm>
          <a:custGeom>
            <a:avLst/>
            <a:gdLst>
              <a:gd name="textAreaLeft" fmla="*/ 108360 w 1676160"/>
              <a:gd name="textAreaRight" fmla="*/ 1567800 w 16761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  <a:path fill="darken" w="21600" h="21605">
                <a:moveTo>
                  <a:pt x="10800" y="3839"/>
                </a:moveTo>
                <a:lnTo>
                  <a:pt x="13376" y="6450"/>
                </a:ln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lnTo>
                  <a:pt x="17763" y="10802"/>
                </a:lnTo>
                <a:lnTo>
                  <a:pt x="16109" y="10802"/>
                </a:lnTo>
                <a:lnTo>
                  <a:pt x="16109" y="17992"/>
                </a:lnTo>
                <a:lnTo>
                  <a:pt x="5491" y="17992"/>
                </a:lnTo>
                <a:lnTo>
                  <a:pt x="5491" y="10802"/>
                </a:lnTo>
                <a:lnTo>
                  <a:pt x="3837" y="10802"/>
                </a:lnTo>
                <a:close/>
              </a:path>
              <a:path fill="darkenLess" w="21600" h="21605">
                <a:moveTo>
                  <a:pt x="13376" y="6450"/>
                </a:moveTo>
                <a:lnTo>
                  <a:pt x="13376" y="4710"/>
                </a:lnTo>
                <a:lnTo>
                  <a:pt x="15152" y="4710"/>
                </a:lnTo>
                <a:lnTo>
                  <a:pt x="15152" y="8226"/>
                </a:lnTo>
                <a:close/>
              </a:path>
              <a:path fill="darkenLess" w="21600" h="21605">
                <a:moveTo>
                  <a:pt x="9877" y="14301"/>
                </a:moveTo>
                <a:lnTo>
                  <a:pt x="11723" y="14301"/>
                </a:lnTo>
                <a:lnTo>
                  <a:pt x="11723" y="17992"/>
                </a:lnTo>
                <a:lnTo>
                  <a:pt x="16109" y="17992"/>
                </a:lnTo>
                <a:lnTo>
                  <a:pt x="16109" y="10802"/>
                </a:lnTo>
                <a:lnTo>
                  <a:pt x="5491" y="10802"/>
                </a:lnTo>
                <a:lnTo>
                  <a:pt x="5491" y="17992"/>
                </a:lnTo>
                <a:lnTo>
                  <a:pt x="9877" y="17992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5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7559640" cy="2481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C:\Documents and Settings\student\Local Settings\Temporary Internet Files\Content.IE5\PM48CWES\MC900433818[1].png"/>
          <p:cNvPicPr/>
          <p:nvPr/>
        </p:nvPicPr>
        <p:blipFill>
          <a:blip r:embed="rId2"/>
          <a:stretch/>
        </p:blipFill>
        <p:spPr>
          <a:xfrm>
            <a:off x="2133720" y="16002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0" y="578016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ttp://searchstorage.techtarget.com/sDefinition/0,,sid5_gci211721,00.html  (byt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SS;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mputers and the Internet- Unit 2, Binary Numbers Information, Binary Number System Made Easy, Binary Numbers Cha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computer was created in the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entu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Mother Board is basically called, “ The heart of the computer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AM means random access mem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ill Gates created Microso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Action Button: Forward or Next 3">
            <a:hlinkClick r:id="" action="ppaction://hlinkshowjump?jump=nextslide"/>
          </p:cNvPr>
          <p:cNvSpPr/>
          <p:nvPr/>
        </p:nvSpPr>
        <p:spPr>
          <a:xfrm>
            <a:off x="6400800" y="57913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07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irst programmable program was created by Konrad Z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rd Drive- is a storage device that stores basic inform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- it sends instructions of programs to the scre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ction Button: Forward or Next 3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21957" y="10800"/>
                </a:lnTo>
                <a:lnTo>
                  <a:pt x="794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987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761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tical Drive- a type of storage device, but it uses light to store and receive informa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wer Supply- electric circuit that change to make the computer able to come 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deo Card- displays 2d and 3d imag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PU stands for Central Processing Un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Action Button: Forward or Next 3">
            <a:hlinkClick r:id="" action="ppaction://hlinkshowjump?jump=nextslide"/>
          </p:cNvPr>
          <p:cNvSpPr/>
          <p:nvPr/>
        </p:nvSpPr>
        <p:spPr>
          <a:xfrm>
            <a:off x="69343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ame Addiction occurs when virtual life becomes more appealing than real life because a pers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different than they are in real lif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02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MORPG stand for Massively Multiplayer  Online Role-playing Ga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e of the biggest MMORPGs in the world is WOW or World of Warcra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Action Button: Forward or Next 5">
            <a:hlinkClick r:id="" action="ppaction://hlinkshowjump?jump=nextslide"/>
          </p:cNvPr>
          <p:cNvSpPr/>
          <p:nvPr/>
        </p:nvSpPr>
        <p:spPr>
          <a:xfrm>
            <a:off x="6705720" y="5715000"/>
            <a:ext cx="1447560" cy="1143000"/>
          </a:xfrm>
          <a:custGeom>
            <a:avLst/>
            <a:gdLst>
              <a:gd name="textAreaLeft" fmla="*/ 73800 w 1447560"/>
              <a:gd name="textAreaRight" fmla="*/ 1373760 w 1447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54" h="21600">
                <a:moveTo>
                  <a:pt x="0" y="0"/>
                </a:moveTo>
                <a:lnTo>
                  <a:pt x="27354" y="0"/>
                </a:lnTo>
                <a:lnTo>
                  <a:pt x="27354" y="21600"/>
                </a:lnTo>
                <a:lnTo>
                  <a:pt x="0" y="21600"/>
                </a:lnTo>
                <a:close/>
              </a:path>
              <a:path fill="lightenLess" w="27354" h="21600">
                <a:moveTo>
                  <a:pt x="0" y="0"/>
                </a:moveTo>
                <a:lnTo>
                  <a:pt x="27354" y="0"/>
                </a:lnTo>
                <a:lnTo>
                  <a:pt x="25954" y="1400"/>
                </a:lnTo>
                <a:lnTo>
                  <a:pt x="1400" y="1400"/>
                </a:lnTo>
                <a:close/>
              </a:path>
              <a:path fill="darken" w="27354" h="21600">
                <a:moveTo>
                  <a:pt x="27354" y="0"/>
                </a:moveTo>
                <a:lnTo>
                  <a:pt x="27354" y="21600"/>
                </a:lnTo>
                <a:lnTo>
                  <a:pt x="25954" y="20200"/>
                </a:lnTo>
                <a:lnTo>
                  <a:pt x="25954" y="1400"/>
                </a:lnTo>
                <a:close/>
              </a:path>
              <a:path fill="darkenLess" w="27354" h="21600">
                <a:moveTo>
                  <a:pt x="27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4" y="20200"/>
                </a:lnTo>
                <a:close/>
              </a:path>
              <a:path fill="lighten" w="27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4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15:39Z</dcterms:created>
  <dc:creator>bcpss</dc:creator>
  <dc:description/>
  <dc:language>en-US</dc:language>
  <cp:lastModifiedBy>student</cp:lastModifiedBy>
  <dcterms:modified xsi:type="dcterms:W3CDTF">2010-11-05T18:17:55Z</dcterms:modified>
  <cp:revision>101</cp:revision>
  <dc:subject/>
  <dc:title>Topic 1</dc:title>
</cp:coreProperties>
</file>